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C709-8892-4476-97A5-463C7A9FE3C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633B-A911-4C79-B351-BB31558ADF8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FC14-3903-4F79-B5A2-64398FE2DDE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4747-0039-4926-A9B9-3D791BFC9932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CBD6-FB61-444A-A2E9-712D749A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5BC5-EBF2-49B7-BB40-0AD1A994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222A0-E653-49D8-ABE7-17C460A6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C8DB7-7E65-46DE-9A93-784D42F6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B9792-8B9A-4EA3-BC4B-9CE29807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40718-17E0-453E-8A27-7D20152C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21712-A2CB-4579-A707-25098325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3394D-9276-4C61-89C9-D63E7F28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63FFA-31B1-41E6-922E-F78A2299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4D712-9DC1-4AC6-BF8F-FC4ECD6C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8F51F-E237-4E7B-9D8F-B0655CD2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4BCFE-3591-4CE0-B36C-913A9038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9BD6-37A1-47CF-98A0-A70B7B77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650D4-11D5-403A-8E5D-FDDD259C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11863-DE27-4B16-9AFF-F935FC53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4E2F1-9D20-4F45-B77B-6D412848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8457B-451A-4FE1-A429-FFAE2A1B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65D63-E444-48B0-8C32-03339529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90849-7304-43EE-91C3-D7399284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CFA50-BA7A-4DBF-BF84-37A75E4C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E8B6C-CCE0-4143-AD42-8964FA0C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3C94E-8F76-4B88-8F1B-267EF6F6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B9397-9F2A-409F-9A6A-E4124871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E5D1-6466-45B3-9E43-8B42B02B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6C61D-4AEF-4DF5-8FED-15949838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5B5FF-593F-40F0-AD6B-D25D5EA1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C8D96-0048-4D4F-9165-F74C7FF9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92A6F-1CD9-493E-8F98-C7E58290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0B6FD-72AD-4263-8029-2D2918AC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B4380-F63A-4B91-9EBB-0813FDD2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C7336-4323-454B-AC93-90F92008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4BC9E-424E-4D9F-983B-8F2EB743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EFAE9-00C4-43A1-8FC3-C90ABFB6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0FF32-B578-443B-90C4-F61831A9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6D34-A4D4-4D8E-A479-96E042C5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7FF49-55E5-48A5-879A-8DB2BFC7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0CE40-7414-45BF-8624-C96E0856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988F8-F70C-43E3-A23A-F6D790FA0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FC395-4A75-4CE8-B7D7-1FE193F1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76BBA-DF74-49D4-928C-E23F85D3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24AB4-2ECE-42AE-B266-F8F230CD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86CEA-3D8A-4EE4-B489-966777C5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2D399-FB9E-4713-9F98-6C33286E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8F5B2-B49A-4782-A51A-8C1335D5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C7DB6-0A27-4B47-BAE3-1F59C436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EC9A-588F-462F-8D1F-D8368300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D90F3-41CE-46B6-8B14-50C6F3F3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49387-4DE7-4224-873D-808BF2B0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E1F0A-7170-468B-BB58-52243EE0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A60BE-75AF-4118-A738-D4A78B15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D7AAB-8D36-4DB5-96BE-4F69BEEB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864E08-434B-4793-BED2-D89CD625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58B5DB-6A33-40C6-858C-5CF676D5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CE89FF-AAD3-425B-BD42-68CC6833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AE9478-450F-4CEA-AC90-6111EEEF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E6A5A5-C47D-462F-9739-D9860506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3183-E18E-4D31-B254-CDE4C42B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CEB38C-0943-41A0-89F8-7E185117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05A73C-70D2-4BD4-BE08-EA45CCEC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90A71F-F957-47E0-B4DE-B4AE672E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935DFF-A1BF-469E-BB95-75C586EC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083D4-6947-4F1B-A06A-DDE4B35D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EED27A-62BF-4040-9303-AF2291D7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15C2FA-E588-4BA3-8F9D-9963F994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6997D7-81E1-4225-8BE7-D3D03C53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D4EFD6-575B-45E7-BB97-53D9A9A2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1C1C5A-3912-464D-9C5D-E235F7EE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AFF9-6698-408D-9A8F-D722B758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F69C0E-4AC3-4FF9-A0F3-499FC8D1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7D8EE4-4796-451E-A867-2C3D63F0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F0B4D0-D6A0-4D7C-A6D0-C7C76E3C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104E98-0830-4364-9093-A5350EAE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BF3878-D2DE-4990-B6B3-7907E22D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AB03D6-817F-4864-AC29-452FE758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CB863D-6B21-408F-884F-58A10158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E9EF4E-AA88-4917-8079-5B41967E5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15290C-6A7C-4CC2-8809-330672BF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4611A1-31D0-455D-9D85-A4EA24F4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98AC-4096-4D7A-B087-BBC295CE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902277-296E-4AA0-8950-C628D6FF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CA2441-F0D0-4DE8-9EC6-95C22A4F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B1243D-2C0E-4661-A46F-45F22867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6B800D-1D5D-48E4-8060-1EE621D1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9864F2-2DD8-45D0-82ED-21AA815A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0BF332-17AE-4811-85CF-021ECECA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185083-C476-4793-87FF-6BA30626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C8C27E-9C75-4A8F-8009-4AA547F6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00B028-D9D1-4AD8-A496-5AF6888D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9098B4-F0B5-458D-A532-D2DFE0B6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DDF3-8936-4ADA-83D7-0067A8FB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F9BB86-4FD3-486A-84B2-7B3B22B1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996D51-E6B1-472E-BCFF-D613535C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B85468-23A0-4BF5-AEF0-F2814E24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127BB4-FF18-4BC0-B4FF-54248012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B1851B-7EAE-4499-B80F-7DA90C89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69CF72-6B8C-4A64-8D77-69A894EE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CE03FC-BB75-40BC-AC80-52277994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7677B6-6C27-474F-86C7-1F817FA0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98F110-58D8-47B2-85E1-C3B79D06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8533C2-A7F2-4894-9E43-F172D635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D82C-02BB-4305-AAAD-43B03D2D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DF0F37-5475-4BDB-B479-EAF7A93A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06C6C4-0DF3-40A2-9D34-EBEC2F84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E5EC29-AD1F-4B08-8D90-95A05C9E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FD7748-D475-4911-B5A9-C783CA73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962224-F2AE-4DF3-B84C-B8BB3DE1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88C29F-FB6B-4267-9D76-7DC4E549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56EAAD-EB86-4E92-8E43-07BFF749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5065F9-C155-4CB5-A23C-7DFE10DB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68C57D-2D24-4D18-B9DC-01AF31E9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2F6A15-D60E-49CC-82A4-20A79A6C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F03C-BDE2-4FB9-A70D-7A32D261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550E-6FE3-4B2A-B548-E8C0502A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0A1ADE-D5F2-427D-B466-A5642677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30B063-13BF-4A25-B7FC-A6FD92FC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21E69E-E34B-4C46-8B17-93811BA0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8C1A9B-6387-4B13-BC76-27287DD6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51E6C6-DED7-4ECC-89A8-5003F39C7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A8E4-B987-4172-9BE0-AA320B96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6FD1-2E1F-4C31-B8E9-13A06598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A0B7-6321-4105-A925-3F753811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6B65-7517-42A2-BE6B-1C03D4E5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89D24-DEBF-44B4-8D8A-7F0FC928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CDA0E-C3EF-4CFB-87A6-8ED6D5D7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8F3F2-9990-4256-A422-2AACE5F1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27016-7F30-4CE5-9880-61E162B7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15E8C-BBFB-448F-A5B7-C44BF314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54B2-ADE1-464B-A7FC-18C0A773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3BE31-0E15-4710-A94B-E4B97832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058F8-E543-4DD2-80EC-900D57B5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2C522-1153-4164-8A97-386EEBBB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4B0B6-21AF-434D-A6F9-1134E890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1B3D3-8E1C-4DD9-948B-2235E1CC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9DAD7-CB89-46CD-A204-49BFF213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68A3A-BECC-45E0-9529-F478B7E6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F1282-8AD2-47D9-ACF9-4CE93C50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CF482-E48D-404E-9042-6235B626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23BF5-DDF4-4FA0-8F3E-5864CBC1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40D1-70CF-424C-B800-5B98E4D8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91D76-BC2E-4FA4-80B3-0FCCD842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7734B-959B-4BC2-A552-1B3340BB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7982A-5B50-4D0D-BA21-47341DBA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B7573-496F-4725-81B2-B32ED133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83F07-A580-499E-BE06-5D2EEF6C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86929-AD6E-4F3A-9C59-171E49E4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B1F03-5A47-49C7-96E4-657AA905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588E5-2CA4-43CC-AD01-8CD08940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86E82-5576-4E2C-B74F-C050382E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290AB8-CBF8-439C-84A1-D011188E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C38F-3CA3-4345-A344-D241C293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3707FA-A73F-42C7-A5E0-AA6DDB40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F71D59-8CED-4F7A-8FB7-ABDAEB16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4DFB63-6065-4927-8E1E-BD351292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3B061F-762F-4C7D-9DF7-073CBBF7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6B4EA1-9005-4294-B60E-71DD3AA2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0C71A7-EFFF-4A9F-8003-4BA5E5A4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6BEBEF-66AC-45AE-90F7-30F9EDE0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88CD14-99FF-40E9-8C74-59F8FE71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F04972-8416-405E-A798-88B125C3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FE47ED-8214-46ED-950C-613FDBF6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14B-212C-4090-B947-4B96EBDB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93DCE7-D858-41E0-ADE9-E9584C43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5E76B-B37A-444E-8A81-B4AB3FF9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73C57-371D-44AB-A981-2FB7BD8E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B57E6-BBCC-44FF-99E4-9704F018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FCEF0-7DA0-474A-A561-4CBBA5ED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FEDD6-A84A-4654-9C88-77FA3BBA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59DE5-EF4A-4AB3-8D22-073F97E3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8931E-E3C0-48D3-B243-DF1C7CEF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A5C8B-77B2-4AE8-AE5D-1D307FA8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60CDA-91EA-4E6A-A204-849B9E73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DBBC-F174-4AB6-8B4A-915A9C2E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5BF01-7059-468A-BC26-0386AD56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E886C-F92F-40AB-AA90-9E06E6CE0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4A896-D6DE-4FDA-989D-18A0866F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E3AB8-1DA1-4665-B915-0B407F11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E0A6F-B014-431C-BE8E-EA0EF614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8CE7C-4A62-4075-BB1F-1D2FFCEA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C9D18-2F05-4021-B0EA-032C43CC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31FB4-FA17-4C47-B457-AEDD9F1A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09F01-D9A0-4CF7-B6E5-FB461F16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68899-4FA4-4CC1-A6CE-8E9A471D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A673-4931-40D5-8E6A-ADEEB738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0B64F-B3E3-4B45-85C5-3CF0DF0F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C2159-0135-4E0D-B925-B8220B3F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65DC1-F257-4984-A489-1CD6E63B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387CF-52AD-494D-ABC0-819A1097B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1D167-47CA-4C03-A96A-AEF2C878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E1963-AAE5-442C-B082-F88D9F9E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E43F1-3EAF-4156-94DE-3BD35A24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03A3A-B1A8-4D63-AE63-20F9CBC4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3F194-980D-4C96-B457-26B2B2B8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95560-6540-463E-B2DD-B80FA943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53B0-B45A-478E-B6A0-FFE01F87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DC3D4-5A76-48F0-9F96-BBE025FA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B8F88-518C-4441-8CFB-FC8C609D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EF092-670F-4DF1-ABFD-EBFB9700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B2861-F655-4418-AB57-2302D791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F7FCD-1164-4CEF-A005-DB900B77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5D1B6-EC5A-4F47-818A-4F41B6EA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C8155-CA28-45C2-BA9C-7C006F8B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E71D8-2BCC-496B-8A6B-75C63D28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7721E-BC7E-4330-BCD0-317CC0C0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DD233-B6B4-4E22-A1C6-181F1721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AFD8-0191-4DB2-BB96-2600C2356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1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1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9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2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027B-086A-4998-B8E3-1B3BD41154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763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5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766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9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770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3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3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3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8618-416E-47D8-901A-7AE819456DA0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81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81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21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3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824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6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827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31" name="Oval 13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3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3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3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4CB7-057F-4623-AF24-DC08F2CD734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4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875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7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878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0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1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82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3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3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3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48C2-8ECA-4913-8B2F-AE9658E9CE6F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26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00F5-06D0-4D35-A970-95158E899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86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D2D2-F9B8-4B25-B27B-13B95ED2F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45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49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2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3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074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9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F07A-CF57-4C1E-A1E4-B04259C85FE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123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127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1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152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2A59-67D0-40C9-A783-ED33556F02B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06D3-2D0F-4826-A604-5BD9845B89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9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E25E-F9EF-4833-82E2-1AF848D4201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36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37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51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46A8-3FAA-4512-9542-EC903BDE06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C162-8235-4E47-9E44-C8F684A2C3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3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3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6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37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381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385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C44E-80D5-4087-BA6A-3D306B72FCBE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2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3D97-3796-4B45-87CB-5E7B36903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77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A2F5-2A88-4617-9155-B056C9C4B20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2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2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3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25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B66F-2FD4-4A99-9AD4-CB7CE23DCF4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La Casa para la Venta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Jessica W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8" name="Picture 5" descr="cool-houses-daily-module"/>
          <p:cNvPicPr/>
          <p:nvPr/>
        </p:nvPicPr>
        <p:blipFill>
          <a:blip r:embed="rId2"/>
          <a:stretch/>
        </p:blipFill>
        <p:spPr>
          <a:xfrm>
            <a:off x="2209680" y="838080"/>
            <a:ext cx="4800600" cy="3600720"/>
          </a:xfrm>
          <a:prstGeom prst="rect">
            <a:avLst/>
          </a:prstGeom>
          <a:ln w="0">
            <a:noFill/>
          </a:ln>
        </p:spPr>
      </p:pic>
      <p:sp>
        <p:nvSpPr>
          <p:cNvPr id="1209" name="Text Box 6"/>
          <p:cNvSpPr/>
          <p:nvPr/>
        </p:nvSpPr>
        <p:spPr>
          <a:xfrm>
            <a:off x="228600" y="4876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e285f"/>
                </a:solidFill>
                <a:latin typeface="Arial"/>
              </a:rPr>
              <a:t>La casa est</a:t>
            </a:r>
            <a:r>
              <a:rPr b="0" lang="en-US" sz="1800" spc="-1" strike="noStrike">
                <a:solidFill>
                  <a:srgbClr val="5e285f"/>
                </a:solidFill>
                <a:latin typeface="Arial"/>
                <a:ea typeface="Arial"/>
              </a:rPr>
              <a:t>à localizada en Cape Cod, Massachusetts. Està en la calle Locust. La casa cuesta $350,000. </a:t>
            </a:r>
            <a:r>
              <a:rPr b="0" lang="en-US" sz="1800" spc="-1" strike="noStrike">
                <a:solidFill>
                  <a:srgbClr val="5e285f"/>
                </a:solidFill>
                <a:latin typeface="Arial"/>
              </a:rPr>
              <a:t>La casa es grande, bella, y lujosa. </a:t>
            </a:r>
            <a:r>
              <a:rPr b="0" lang="en-US" sz="1800" spc="-1" strike="noStrike">
                <a:solidFill>
                  <a:srgbClr val="5e285f"/>
                </a:solidFill>
                <a:latin typeface="Arial"/>
                <a:ea typeface="Arial"/>
              </a:rPr>
              <a:t>La casa tiene dos pisos y doce caurtos. Los caurtos son grande. La casa tiene un garaje para dos carros tambie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0" name="Picture 5" descr="2428"/>
          <p:cNvPicPr/>
          <p:nvPr/>
        </p:nvPicPr>
        <p:blipFill>
          <a:blip r:embed="rId1"/>
          <a:stretch/>
        </p:blipFill>
        <p:spPr>
          <a:xfrm>
            <a:off x="2438280" y="228600"/>
            <a:ext cx="4162680" cy="3124080"/>
          </a:xfrm>
          <a:prstGeom prst="rect">
            <a:avLst/>
          </a:prstGeom>
          <a:ln w="0">
            <a:noFill/>
          </a:ln>
        </p:spPr>
      </p:pic>
      <p:sp>
        <p:nvSpPr>
          <p:cNvPr id="1211" name="Text Box 6"/>
          <p:cNvSpPr/>
          <p:nvPr/>
        </p:nvSpPr>
        <p:spPr>
          <a:xfrm>
            <a:off x="304920" y="350532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9248"/>
                </a:solidFill>
                <a:latin typeface="Arial"/>
              </a:rPr>
              <a:t>La casa tiene cuatro </a:t>
            </a:r>
            <a:r>
              <a:rPr b="0" lang="es-MX" sz="1800" spc="-1" strike="noStrike">
                <a:solidFill>
                  <a:srgbClr val="1a9248"/>
                </a:solidFill>
                <a:latin typeface="Arial"/>
              </a:rPr>
              <a:t>dormitorios grandes</a:t>
            </a:r>
            <a:r>
              <a:rPr b="0" lang="en-US" sz="1800" spc="-1" strike="noStrike">
                <a:solidFill>
                  <a:srgbClr val="1a9248"/>
                </a:solidFill>
                <a:latin typeface="Arial"/>
              </a:rPr>
              <a:t>. Los dormitorios son muy impresionante. Tienen un cama</a:t>
            </a:r>
            <a:r>
              <a:rPr b="0" lang="en-US" sz="1800" spc="-1" strike="noStrike">
                <a:solidFill>
                  <a:srgbClr val="1a9248"/>
                </a:solidFill>
                <a:latin typeface="Arial"/>
                <a:ea typeface="Arial"/>
              </a:rPr>
              <a:t> grande y un amario grande. Tienen muchas ventanas con persianas. </a:t>
            </a:r>
            <a:r>
              <a:rPr b="0" lang="en-US" sz="1800" spc="-1" strike="noStrike">
                <a:solidFill>
                  <a:srgbClr val="1a9248"/>
                </a:solidFill>
                <a:latin typeface="Arial"/>
              </a:rPr>
              <a:t>Dos dormitorios tienen un ban</a:t>
            </a:r>
            <a:r>
              <a:rPr b="0" lang="en-US" sz="1800" spc="-1" strike="noStrike">
                <a:solidFill>
                  <a:srgbClr val="1a9248"/>
                </a:solidFill>
                <a:latin typeface="Arial"/>
                <a:ea typeface="Arial"/>
              </a:rPr>
              <a:t>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Picture 7" descr="11_400x300"/>
          <p:cNvPicPr/>
          <p:nvPr/>
        </p:nvPicPr>
        <p:blipFill>
          <a:blip r:embed="rId1"/>
          <a:stretch/>
        </p:blipFill>
        <p:spPr>
          <a:xfrm>
            <a:off x="2514600" y="3049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213" name="Text Box 8"/>
          <p:cNvSpPr/>
          <p:nvPr/>
        </p:nvSpPr>
        <p:spPr>
          <a:xfrm>
            <a:off x="228600" y="3429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8db4"/>
                </a:solidFill>
                <a:latin typeface="Arial"/>
              </a:rPr>
              <a:t>La casa tiene cuatro ban</a:t>
            </a:r>
            <a:r>
              <a:rPr b="0" lang="en-US" sz="1800" spc="-1" strike="noStrike">
                <a:solidFill>
                  <a:srgbClr val="108db4"/>
                </a:solidFill>
                <a:latin typeface="Arial"/>
                <a:ea typeface="Arial"/>
              </a:rPr>
              <a:t>os. Tres  </a:t>
            </a:r>
            <a:r>
              <a:rPr b="0" lang="en-US" sz="1800" spc="-1" strike="noStrike">
                <a:solidFill>
                  <a:srgbClr val="108db4"/>
                </a:solidFill>
                <a:latin typeface="Arial"/>
              </a:rPr>
              <a:t>banos tienen un retrete, una ducha, un fregadero, una ban</a:t>
            </a:r>
            <a:r>
              <a:rPr b="0" lang="en-US" sz="1800" spc="-1" strike="noStrike">
                <a:solidFill>
                  <a:srgbClr val="108db4"/>
                </a:solidFill>
                <a:latin typeface="Arial"/>
                <a:ea typeface="Arial"/>
              </a:rPr>
              <a:t></a:t>
            </a:r>
            <a:r>
              <a:rPr b="0" lang="en-US" sz="1800" spc="-1" strike="noStrike">
                <a:solidFill>
                  <a:srgbClr val="108db4"/>
                </a:solidFill>
                <a:latin typeface="Arial"/>
              </a:rPr>
              <a:t>era, un espejo, y un gabinete de medicina. Uno bano tiene un retrete, una gabinete de medicina, una lavadora, y una secadora. Uno ban</a:t>
            </a:r>
            <a:r>
              <a:rPr b="0" lang="en-US" sz="1800" spc="-1" strike="noStrike">
                <a:solidFill>
                  <a:srgbClr val="108db4"/>
                </a:solidFill>
                <a:latin typeface="Arial"/>
                <a:ea typeface="Arial"/>
              </a:rPr>
              <a:t>o esta en la planta baja y Tres banos esta en el primer pi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Picture 5" descr="top-kitchen-10"/>
          <p:cNvPicPr/>
          <p:nvPr/>
        </p:nvPicPr>
        <p:blipFill>
          <a:blip r:embed="rId1"/>
          <a:stretch/>
        </p:blipFill>
        <p:spPr>
          <a:xfrm>
            <a:off x="2362320" y="304920"/>
            <a:ext cx="4457520" cy="3314520"/>
          </a:xfrm>
          <a:prstGeom prst="rect">
            <a:avLst/>
          </a:prstGeom>
          <a:ln w="0">
            <a:noFill/>
          </a:ln>
        </p:spPr>
      </p:pic>
      <p:sp>
        <p:nvSpPr>
          <p:cNvPr id="1215" name="Text Box 6"/>
          <p:cNvSpPr/>
          <p:nvPr/>
        </p:nvSpPr>
        <p:spPr>
          <a:xfrm>
            <a:off x="152280" y="373392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1560"/>
                </a:solidFill>
                <a:latin typeface="Arial"/>
              </a:rPr>
              <a:t>La casa tiene uno cocina. La cocina es moderna y grande. Tiene un refrigerador, un fregadero, un horno, y muchos gabinet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6" name="Picture 5" descr="living+room+concept"/>
          <p:cNvPicPr/>
          <p:nvPr/>
        </p:nvPicPr>
        <p:blipFill>
          <a:blip r:embed="rId1"/>
          <a:stretch/>
        </p:blipFill>
        <p:spPr>
          <a:xfrm>
            <a:off x="2514600" y="2286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17" name="Text Box 6"/>
          <p:cNvSpPr/>
          <p:nvPr/>
        </p:nvSpPr>
        <p:spPr>
          <a:xfrm>
            <a:off x="228600" y="34290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 casa tiene una sala. La sala es muy impresionante. Tiene un televisi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ón grande, una sofá, y una mesa pequen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Picture 5" descr="http://www.google.com/url?source=imglanding&amp;ct=img&amp;q=http://www.theperfectdecor.com/ProductImages/casual_dining_F2122_poundex.jpg&amp;sa=X&amp;ei=IaS6T--nBazR6gGowMGyBw&amp;ved=0CAwQ8wc&amp;usg=AFQjCNFjquZ_r67VSlT0bk9Yhm-odcOGUA"/>
          <p:cNvPicPr/>
          <p:nvPr/>
        </p:nvPicPr>
        <p:blipFill>
          <a:blip r:embed="rId2"/>
          <a:stretch/>
        </p:blipFill>
        <p:spPr>
          <a:xfrm>
            <a:off x="1905120" y="228600"/>
            <a:ext cx="5333760" cy="3529080"/>
          </a:xfrm>
          <a:prstGeom prst="rect">
            <a:avLst/>
          </a:prstGeom>
          <a:ln w="0">
            <a:noFill/>
          </a:ln>
        </p:spPr>
      </p:pic>
      <p:sp>
        <p:nvSpPr>
          <p:cNvPr id="1219" name=""/>
          <p:cNvSpPr/>
          <p:nvPr/>
        </p:nvSpPr>
        <p:spPr>
          <a:xfrm>
            <a:off x="380880" y="403848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casa tiene un comedor grande. El comedor tiene una mesa y ocho sill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Picture 2" descr="http://www.google.com/url?source=imglanding&amp;ct=img&amp;q=http://images.frontdoor.com/FDOOR/articles/Maximum-Value-Projects/Big-Ticket-Upgrades-%20Pools/garden-pool.jpg&amp;sa=X&amp;ei=xaS6T627KYuN6QGLkdn3Cg&amp;ved=0CAsQ8wc4Eg&amp;usg=AFQjCNGqulzMyWeEO2Bb4btfx1wAzgTzzQ"/>
          <p:cNvPicPr/>
          <p:nvPr/>
        </p:nvPicPr>
        <p:blipFill>
          <a:blip r:embed="rId1"/>
          <a:stretch/>
        </p:blipFill>
        <p:spPr>
          <a:xfrm>
            <a:off x="2022480" y="152280"/>
            <a:ext cx="4800600" cy="3600720"/>
          </a:xfrm>
          <a:prstGeom prst="rect">
            <a:avLst/>
          </a:prstGeom>
          <a:ln w="0">
            <a:noFill/>
          </a:ln>
        </p:spPr>
      </p:pic>
      <p:sp>
        <p:nvSpPr>
          <p:cNvPr id="1221" name=""/>
          <p:cNvSpPr/>
          <p:nvPr/>
        </p:nvSpPr>
        <p:spPr>
          <a:xfrm>
            <a:off x="380880" y="39625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casa tiene  una yarda muy grande. La yarda tiene una piscina y un porche. La yarda es mag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c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6:53:03Z</dcterms:created>
  <dc:creator>wrightjes</dc:creator>
  <dc:description/>
  <dc:language>en-US</dc:language>
  <cp:lastModifiedBy>jessica</cp:lastModifiedBy>
  <dcterms:modified xsi:type="dcterms:W3CDTF">2012-05-22T13:23:36Z</dcterms:modified>
  <cp:revision>9</cp:revision>
  <dc:subject/>
  <dc:title>Slide 1</dc:title>
</cp:coreProperties>
</file>